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F4AC-E59D-4371-AA89-8430DC38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0C0D-F628-48F3-A6B5-4708E6CA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CDCF-E9D5-43EF-8D50-40D5597E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0D37-BA49-418E-A762-99F66334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1051-EEB5-4215-A096-A7A07A5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F81-3166-4F9E-A331-C36927E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2517-2233-4FCB-9B92-3A3D653C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66F1-932E-4721-B8BF-A39E239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919-125D-4251-8AA8-497A264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0F10-F658-4098-B709-9F4B3E91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2C5E-659E-4DD4-9A44-872079A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58BF-41F7-4FA4-9F47-ABF83534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8D29-B46D-4C01-AD0D-451C40A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E639-4959-42A4-8D5D-B19225C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B2F7-CC04-4F4D-975A-C8D8135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BFF2-0E84-4A3E-A800-549EC3B6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559E-2C81-494C-9DE7-5F8FD231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A7B1-E668-4DC2-983D-E4F5335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AEDB-CB20-4E4F-B5F1-A2D930C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37A7-F2E8-4E20-BCCC-324CE692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D954-F57D-435B-9A90-40ACDC15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56D8-A819-429D-9BB1-CF844461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BDF5-83C9-4880-ADD9-DCB68E3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D1E7-2C9D-4B04-9380-77D4681E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32C-BC43-48E8-933C-A8F97427170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88A-38CA-4190-A48D-17FF43C9D22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-20880"/>
            <a:ext cx="112791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, моя радо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ен Си със благо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ден и ч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давна жела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да позна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 м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за мен Си рай блаж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Теб няма на земя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ине в суе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4588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Твоя защи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ша ми е скри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 Христ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ска чест и сл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л е смет ненуж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йто дете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ръст, смърт, мрак, страх, злобний враг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е грабне от Теб, Бож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как не ще мож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55044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кърби и съмнени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ам подкрепление -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при м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аз Бога люб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да изгуб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к ще съм блаж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дял тук е хулен вик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Христос за мен е радо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душата сладо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44:26Z</dcterms:modified>
  <cp:revision>31</cp:revision>
  <dc:subject/>
  <dc:title>Slide 1</dc:title>
</cp:coreProperties>
</file>